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B31F-416C-4FF7-A573-60B573CA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45F6-5F17-4E79-86F6-FDE41EBF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EF05F-F7A9-4A25-979A-56B05B00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2D66C-553E-4007-9AA5-D450E293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623DE-898A-4B53-B6B7-864E789A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EB570-A807-4713-B4C2-812A579F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5D149-185E-4347-BC2A-ABDF0B6C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6B900-36BB-41BD-BF8E-32148DC1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D5889-08B2-46AF-A793-A57ED8F5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38AB7-F303-4CBE-A1A1-659DC49C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68CF0-2DC2-4FB8-94D7-A121E523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3A1D1-2452-48C1-B211-07C23B30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A452-A132-4AB3-9CF5-E8E21E8B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C8892-96F6-4985-99E2-9615EAD8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5264F-BB1E-4FD5-885B-1B9F422F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CB607-8B18-4C00-A024-856221AA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E3C8F-00FC-4C21-B157-13916BFE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76564-F1BF-4885-B183-FBC7991D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44052-5F7D-40D2-8D1D-81CBC690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59AFD-0A71-4C9C-9679-EBBF265E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CF786-7A1F-428E-ADD0-E5720AF1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0A7A5-D633-40B5-8141-6C1EAB4C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1E4D9-5C6F-488E-8ED2-C19374CE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5ECC-8582-4BCD-B372-97E1FAB1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6AF94-BD6C-44D1-8EA7-74AAF2DE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CF85CA-96E1-4D65-871F-5499BE1B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A31FD1-75BE-49C8-B8B3-E0C7BA18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DB41E2-CC62-4CC4-9247-4340FE38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3B20CB-7960-47DB-9504-F7B0643F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54D1B9-1D6D-4565-96EE-1151E2F2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7D8425-FB6B-41F3-B7E8-75C566BE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1A90F3-E603-4C9D-8F93-607E0F26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7258FF-56C3-443E-9BDD-2B33615C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8B59D1-5244-4CF1-A9B1-F68D15EF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CB88-15B8-4FDC-8A06-2636A233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585A74-5320-48CA-88AA-F93F7FFC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1B7673-0B28-4894-8EDE-9271BC2F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3FD3FA-A129-42D0-BE4C-7EB9C596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344F2-E0D3-4FDF-AF38-2397C41C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C454F-5236-41EB-9605-68074E34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596E5-99F6-4E11-8192-19D20C81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824C8-244B-4F5C-94CE-393213AF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85720-6FB1-4913-AE4D-1752EB7B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53AA3-F2E7-454E-8F03-FED1536B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58618-97DC-4089-8A29-6573420D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8BE2-5D81-47B1-AC0D-4043DEFD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3FDC0-64D1-4BAD-B70D-890AFE21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44126-C25C-464E-9BB1-0153C087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B4A8B-C5E6-4A84-870F-BB0A46F3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A60D6-F70A-4F9E-B0FB-BC31A407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E3CE6-B0FB-4488-86D7-4679439B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449FAB-6603-4E91-A1AB-037605E31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A0EDA8-2E50-4C5C-9CB5-E9612917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8635A-2B8F-493A-98FF-2B68E52A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8F39E2-5AA5-4860-A935-E9A8EEB8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BB750F-FBBC-413F-AECE-96A670FB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D8D6-835E-4AAC-991E-84E9A80F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AB70EB-BD23-43F8-8F2D-8F3CC4BC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425D5E-1FAD-4C51-9D46-5D5C8F3C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8D258C-4A3B-446A-A283-C3F50F2F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4E6D42-DFA0-4A48-A7C3-7CB738B4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F8262-92A8-44F2-B23E-64D893D0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F8D9C3-CBA4-4958-AAD2-A09240ED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93DF81-5E66-4BB7-8C9B-508737CB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CCD929-F86C-48AA-AAC7-01C629C8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BDB21B-55C7-4852-B348-DF61FEBE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445641-5E70-41A8-B953-92B0CFA1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103B-CA4B-43CA-A362-19DBF995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1D28AB-B845-4310-8571-ADD9FB03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6A3791-436A-48F1-8BAF-B7AA213F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A40FA2-0352-4514-9BEB-99BA6A31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EA004C-B686-4907-8073-16B8B280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551452-1BB5-4608-8D1C-B4DE4643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A7B257-BD38-428C-88BE-647203A3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A59832-7BAA-4443-8924-6532962E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B7F3C1-92CF-435E-862B-39F5C88E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ACE00F-9634-4550-8E24-5E7E8049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AE6C-334B-42A0-BD90-AA3B69AB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B821-9ED6-40C1-8BCA-F79D34AD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D6CB-6B42-4582-B4F1-46CA72C4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F9CE-1A13-4C23-9ACB-CDC488C2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ACB2-B5E9-462D-8A9A-DE11E922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5B6F-8CB6-4D91-9022-F31A17F6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0144-3EB1-4918-8D4E-C38CBF21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E14A-FBBA-40C9-B111-A8A2020A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DC1F-3CB7-4873-B1D8-D5495C63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41A86-5434-40FA-A648-3CF51D64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396A2-51FE-4B8E-9E00-68F9F494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2AABD-FAB3-4E5E-85A0-894C0013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64F65-6CDF-422E-AE66-E381AFB1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82B16-77C6-4AA9-84F0-112D74BE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D837-519B-49C1-B605-7ABB62B1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B5B48-8FB3-47B2-BA19-36D6FF55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98C4B-E631-4CEF-B8AF-99BEB603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770CC-45AB-427F-9310-9933F7F2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962A3-970B-435E-8AFA-ADCC28A3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37B09-DA5F-4A65-A519-5BDB755B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FF468-D7E8-4F44-BA96-514A3D80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CC64D-5B49-434C-ACA9-1C9403C0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14D3B-CC28-4FAE-8D0F-7A8D28F5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876C3-1A8D-4B18-9160-F52AE6F9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FA63C-30CD-4340-A120-1CC5195B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1CBC-167B-49F5-B281-BACC62C8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28DB3-7645-4F69-87C3-B196DCA4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9B422-D2F6-4877-9A05-57BF771E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76446-BB63-4709-AF01-13D6216A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93267-9F0E-44B0-9FD2-38A8A68E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3D7BF-2DEF-4A9A-98B7-C71CE6D5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60040-79D1-455E-95EB-2467B4F3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709DF-6D8F-4FD8-B3E7-6F4443FC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8859C-5533-430C-9355-463FE919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F6A2A-A47C-4C13-979C-89F777EF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2E77BA-1F23-4684-8251-7794070B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F295-2265-4A5D-9475-897D02F3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63F03A-84F5-4B38-9173-6579ACC6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55EF71-3131-43C3-A1FC-A492BFF5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71527D-A076-45EC-80B3-7DCAFBA5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4F66CC-A7E4-4E0D-A579-EE89F551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3DCDCF-A36C-4188-BD2E-ACB466B6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E099A9-02CA-4491-84FF-D0D2DEBC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C17454-0C5A-44D5-97D5-D2783DCE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B23089-8BBA-4DAB-A98D-0AB90435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5EA162-9433-46AF-B873-9FC7D8F4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7FA47F-3968-4A8A-A5AD-EC8832FC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390D-B712-47FB-BBB7-D4713848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BB0ED2-A4A6-4F89-8046-05AB419F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7FA19-9C43-4448-8EF6-60F57E16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F6A67-C52B-46E6-83B7-6ACD86CB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F0022-CFDC-4B03-939D-0E88051B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3710F-C1FC-45D7-82D5-708B1C5A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E7252-F6E2-457F-9AFE-D881A016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C066D-B681-4834-B958-943F9FC0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82DF1-C817-425E-AAF9-BF4DD69D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E2D3F-CCBD-4325-A2F4-70C0B00A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C4740-6832-4DD0-9F24-73391119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ED3C-F6C9-425F-8420-FD6ED5FF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F78CA-73C9-4969-93FA-1A18B693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E8631-4EB0-4197-AD3B-D8F37BE6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5ECA7-FE2A-406E-9A8C-CF74E052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E2C36-4C62-47EB-8B7A-9FF84C22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4D42A-16A8-4748-90B1-F8D4D42B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1CCF6-2C8D-4BBB-875A-C0F2E626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A4376-3FF8-4DC4-933E-10D0F7F5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5E5B5-340A-4714-8D95-DD49762B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78642-22E4-4656-AEFD-1D0C65B0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427CF-E3C2-48E6-A170-6454771F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DACE-6509-4C57-91B2-21506A2F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1A830-78D9-40C0-9DD3-86175521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2926A-6370-4882-BD36-2A92FBA5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B9C4E-A396-42F3-8867-8A8472EE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5A25F-ED66-4E65-9EAD-943022A3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E0E05-C7DF-4E43-AE26-B4B04137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1199B-B2D3-4EAD-95FE-79F1D780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C5884-4DE1-42D9-82EA-12AD0282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0DCC9-9C6F-4DE7-A6D7-3C857B2F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5AA4A-1EBB-4763-A101-6F34A5CD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78AB0-6D09-4454-B62F-371A1D39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565F-230A-433A-98EC-3C75E99F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0E49F-2EC5-48BB-85FB-A39D4279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83BF5-8F9C-4955-AE7D-A8367367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F72E8-337D-4997-A54C-DCD96BD6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3C107-A549-4BCE-818A-D20C5B47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C5C13-232A-41A8-B872-0DE5053C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03FAB-D8B0-4F5E-859B-B3D2244D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7C5B3-D6FD-4BE1-8B26-E0570126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470D5-31EB-4E55-B14C-06C4004B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83A17-1474-41D0-81BF-EE7921BC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7D00A-C2CE-4DF4-B480-48B83073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E964-CF11-4948-B26E-D88602EEE8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710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dt" idx="28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ftr" idx="29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sldNum" idx="30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E49F-246E-477F-B6F7-C5EDC3C8899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579A-F007-42E2-9A5F-F15E6ECBA8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5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5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0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0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E8AC-C37C-4C82-AF21-B2AF9A5283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5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6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86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87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87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87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E93C-E952-42F3-8D3D-51A63F39AB71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93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93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5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95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96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96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96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8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918C-FAE3-4619-91D1-49DC46128080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E858-4A6A-447A-8561-787472645B8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4D56-EC3E-42E2-A2F4-8E47D8923DA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80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81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95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9AC4-EFDD-4706-8DC3-E46AB482B14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CD4D-9921-48D4-AE14-2ECD59600C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7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0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7DBF-806C-4C8F-A306-AA49762BE0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3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EC6B-9965-49EC-B449-D5F5C9FD1E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dt" idx="2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2810-4C3B-4732-8A00-6E2B8860F1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665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25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26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6E3F-3C9B-4A41-B050-91A6E16451A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u.wikipedia.org/wiki/&#1060;&#1072;&#1081;&#1083;:Backing_sheep_at_sheepdog_competition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Impact"/>
              </a:rPr>
              <a:t>ДИКИЕ ЗВЕРИ</a:t>
            </a:r>
            <a:endParaRPr b="0" lang="en-US" sz="8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рхипова Я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32групп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ГП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09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1"/>
          <a:stretch/>
        </p:blipFill>
        <p:spPr>
          <a:xfrm>
            <a:off x="2411280" y="1700280"/>
            <a:ext cx="6034320" cy="44956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Unicode MS"/>
              </a:rPr>
              <a:t>Какая пословица гласит о том, что дикого зверя нельзя приручить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e929"/>
                </a:solidFill>
                <a:latin typeface="Tahoma"/>
              </a:rPr>
              <a:t>«Сколько волка не корми, а он всё в лес смотрит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4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Желаю вам успехов в получение новых знаний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053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2579760" cy="3895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" dur="2000" fill="hold"/>
                                        <p:tgtEl>
                                          <p:spTgt spid="10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Monotype Corsiva"/>
              </a:rPr>
              <a:t>Возможно ли приручить дикого зверя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457200" y="2060640"/>
            <a:ext cx="4546440" cy="340992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/>
          <p:cNvPicPr/>
          <p:nvPr/>
        </p:nvPicPr>
        <p:blipFill>
          <a:blip r:embed="rId2"/>
          <a:stretch/>
        </p:blipFill>
        <p:spPr>
          <a:xfrm>
            <a:off x="5035680" y="2060640"/>
            <a:ext cx="3289320" cy="36003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Georgia"/>
              </a:rPr>
              <a:t>Назовите одомашненных животных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4140360" y="3716280"/>
            <a:ext cx="2879640" cy="2527200"/>
          </a:xfrm>
          <a:prstGeom prst="rect">
            <a:avLst/>
          </a:prstGeom>
          <a:ln w="0">
            <a:noFill/>
          </a:ln>
        </p:spPr>
      </p:pic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ИЩНЫЕ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Соба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ffffcc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ш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Лесные хорь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ВОЯДНЫЕ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Овц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ffffcc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з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Лошади, вол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БЕСПОЗВОНОЧНЫЕ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cc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чёл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cc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утовый шелкопря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7" name="" descr="Backing sheep at sheepdog competiti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557360"/>
            <a:ext cx="145764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Знаете ли вы каких животных          нельзя приручить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9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de929"/>
                </a:solidFill>
                <a:latin typeface="Arial"/>
              </a:rPr>
              <a:t>Чёрный ворон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de929"/>
                </a:solidFill>
                <a:latin typeface="Arial"/>
              </a:rPr>
              <a:t>Кабан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de929"/>
                </a:solidFill>
                <a:latin typeface="Arial"/>
              </a:rPr>
              <a:t>Лошадь Пржевальского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1"/>
          <a:stretch/>
        </p:blipFill>
        <p:spPr>
          <a:xfrm>
            <a:off x="4016520" y="1919160"/>
            <a:ext cx="3993840" cy="21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аких животных уже не существует в природе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аблезубый тиг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мо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прачный тапи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дийский носоро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3" name=""/>
          <p:cNvGraphicFramePr/>
          <p:nvPr/>
        </p:nvGraphicFramePr>
        <p:xfrm>
          <a:off x="4572000" y="1771560"/>
          <a:ext cx="4191120" cy="28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71560"/>
                    <a:ext cx="419112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Monotype Corsiva"/>
              </a:rPr>
              <a:t>Какие вы знаете изменения признаков после одомашнивания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Сокращение массы мозга на 20-3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Притупление остроты восприятия(зрение, слух, обоняние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Изменение или исчезновение некоторых форм поведения( к примеру- понижение агрессивност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Уменьшение зубов и рог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Появление разнообразных мастей и окра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Редукция волосяного покрова (свинья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Менее развитый инстинкт защиты потом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Повышенная плодовит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3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Кто был предком домашней лошади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781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2"/>
          <a:stretch/>
        </p:blipFill>
        <p:spPr>
          <a:xfrm>
            <a:off x="3995640" y="1844640"/>
            <a:ext cx="3751200" cy="31957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ути одомашнивания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уть привыкания животного к человек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асильственн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42" name=""/>
          <p:cNvGraphicFramePr/>
          <p:nvPr/>
        </p:nvGraphicFramePr>
        <p:xfrm>
          <a:off x="5796000" y="1268280"/>
          <a:ext cx="1906560" cy="21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1268280"/>
                    <a:ext cx="190656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4" name="" descr=""/>
          <p:cNvPicPr/>
          <p:nvPr/>
        </p:nvPicPr>
        <p:blipFill>
          <a:blip r:embed="rId3"/>
          <a:stretch/>
        </p:blipFill>
        <p:spPr>
          <a:xfrm>
            <a:off x="3924360" y="3429000"/>
            <a:ext cx="1836720" cy="27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ервое, прирученное человеком животное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ОБАКА, предком которой был волк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1"/>
          <a:stretch/>
        </p:blipFill>
        <p:spPr>
          <a:xfrm>
            <a:off x="5800680" y="1600200"/>
            <a:ext cx="1733760" cy="218592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2"/>
          <a:stretch/>
        </p:blipFill>
        <p:spPr>
          <a:xfrm>
            <a:off x="5338800" y="3938760"/>
            <a:ext cx="2657520" cy="218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8:43:52Z</dcterms:created>
  <dc:creator>User</dc:creator>
  <dc:description/>
  <dc:language>en-US</dc:language>
  <cp:lastModifiedBy>07083</cp:lastModifiedBy>
  <dcterms:modified xsi:type="dcterms:W3CDTF">2009-11-05T13:14:12Z</dcterms:modified>
  <cp:revision>13</cp:revision>
  <dc:subject/>
  <dc:title>ДИКИЕ ЗВЕРИ</dc:title>
</cp:coreProperties>
</file>